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F0A-EE61-4510-A8A7-8A8BC031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0BA-A855-4F76-B5CB-2542FAB3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8D22-CB9E-4CD0-A82C-C5CE0F03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045-6E0A-4F2B-9ADC-080F6730D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55EE8-F561-4168-9F68-3BA96452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BCAC52-BF21-4401-9880-3A0DCEC2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4B4DF-E646-4D2B-9693-42650C15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57DA4-9732-4EBB-B532-FB35015F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AF4F5-2FDE-4DA7-B325-F8427557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50A89-2545-4344-A97B-34A56BCE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3F229-C38B-4F22-9140-38BA7AE8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A26-9B3F-4330-A7E6-A2C0F5DF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ECDC7-D109-460B-BE95-EB85AA37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DD153-1258-4113-8B42-B6EEB292B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E691E-EB7D-47F0-8059-7A4E6798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69B61-1530-49AC-9A31-1E9EAFDA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1A530B-44C5-43B5-9D6C-8DFDDD80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3B4-100B-484D-8871-4C921AB9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0A00-CFCC-4032-BD7B-569A4C42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1D3E-1893-47D5-91DF-C217D839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19F-B041-413E-856E-00773E4D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4AB-B4ED-4E2C-A39B-C3100151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A22-8EC0-4D7F-BB1C-96A58DAF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699-4D2A-4A03-9A5D-388D1337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74D0-E920-438F-93F3-50CEBDCEA2DD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4397-EF9D-4DE5-A98E-982546C13536}" type="slidenum">
              <a:rPr b="0" lang="en-A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IALA ANM 16 – Rapporteur Report </a:t>
            </a:r>
            <a:br>
              <a:rPr sz="3200"/>
            </a:b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Agenda item 5.4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Tahoma"/>
              </a:rPr>
              <a:t>Development of e-Navigation within AtoN Author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Gerry Br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Manager Aids to Navigation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ffffff"/>
                </a:solidFill>
                <a:latin typeface="Tahoma"/>
              </a:rPr>
              <a:t>Australian maritime safety Authority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6856560" y="40464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-NAV10/7/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10920" y="1773000"/>
            <a:ext cx="806436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e-Navigation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ed for standards &amp; regu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e-navigation test be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Bridge solu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User centr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Value of discussion for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83664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Outline of pres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1915920"/>
            <a:ext cx="6624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Architecture – the shore-based perspectiv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Proposed IMO Common Maritime Data Structure incl AtoN information standar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 developments in member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-45072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-Navigation Underway” Conference outcom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0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691920"/>
            <a:ext cx="7699320" cy="21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formation Paper on the draft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ALA Recommendation e-NAV 140 on the e-Navigation Architecture – the shore-based perspective (Ed 2)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55280" y="314172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is document establishes relevant principles for a shore-based system architecture harmonized for e-Navigation.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619280" y="47628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-Navigation - shipboard, shore-based and links in-between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1403280" y="1916280"/>
            <a:ext cx="2720880" cy="2164680"/>
            <a:chOff x="1403280" y="1916280"/>
            <a:chExt cx="2720880" cy="2164680"/>
          </a:xfrm>
        </p:grpSpPr>
        <p:sp>
          <p:nvSpPr>
            <p:cNvPr id="92" name="Text Box 6"/>
            <p:cNvSpPr/>
            <p:nvPr/>
          </p:nvSpPr>
          <p:spPr>
            <a:xfrm>
              <a:off x="1403280" y="3253320"/>
              <a:ext cx="2720880" cy="8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aphicFrame>
          <p:nvGraphicFramePr>
            <p:cNvPr id="93" name="Object 5"/>
            <p:cNvGraphicFramePr/>
            <p:nvPr/>
          </p:nvGraphicFramePr>
          <p:xfrm>
            <a:off x="1735560" y="1916280"/>
            <a:ext cx="1588320" cy="142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35560" y="1916280"/>
                      <a:ext cx="1588320" cy="142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95" name="Oval 9"/>
          <p:cNvSpPr/>
          <p:nvPr/>
        </p:nvSpPr>
        <p:spPr>
          <a:xfrm>
            <a:off x="5940360" y="1773360"/>
            <a:ext cx="1989360" cy="1989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Object 10"/>
          <p:cNvGraphicFramePr/>
          <p:nvPr/>
        </p:nvGraphicFramePr>
        <p:xfrm>
          <a:off x="6227640" y="1916280"/>
          <a:ext cx="1455840" cy="164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27640" y="1916280"/>
                    <a:ext cx="1455840" cy="16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12"/>
          <p:cNvSpPr/>
          <p:nvPr/>
        </p:nvSpPr>
        <p:spPr>
          <a:xfrm>
            <a:off x="4356000" y="1844640"/>
            <a:ext cx="747720" cy="2008080"/>
          </a:xfrm>
          <a:prstGeom prst="rect">
            <a:avLst/>
          </a:prstGeom>
          <a:gradFill rotWithShape="0">
            <a:gsLst>
              <a:gs pos="0">
                <a:srgbClr val="aa3039"/>
              </a:gs>
              <a:gs pos="100000">
                <a:srgbClr val="f94320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3995640" y="1989000"/>
          <a:ext cx="1352520" cy="1197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995640" y="1989000"/>
                    <a:ext cx="135252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13"/>
          <p:cNvSpPr/>
          <p:nvPr/>
        </p:nvSpPr>
        <p:spPr>
          <a:xfrm>
            <a:off x="125892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onboard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5796000" y="4292640"/>
            <a:ext cx="216864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armonized collection, integration, exchange, presentation and analysis of maritime information </a:t>
            </a:r>
            <a:r>
              <a:rPr b="1" i="1" lang="en-US" sz="1700" spc="-1" strike="noStrike">
                <a:solidFill>
                  <a:srgbClr val="ff0000"/>
                </a:solidFill>
                <a:latin typeface="Arial"/>
              </a:rPr>
              <a:t>ashore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78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verarching e-Navigation architecture</a:t>
            </a: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611280" y="1413000"/>
          <a:ext cx="7956360" cy="52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13000"/>
                    <a:ext cx="7956360" cy="52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50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The e-Navigation architecture with a focus on the shore-side</a:t>
            </a: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56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HO GI Registry, including the IALA dom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Tahoma"/>
              </a:rPr>
              <a:t>Current and planned e-Navigation developments by IALA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773000"/>
            <a:ext cx="77774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ustralia has established an e-Navigation consultation grou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n 2010-11, the Canadian Coast Guard prepared an e-Navigation vision/strategy with input from industry stakeholders (still a draf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Ireland are well advanced on AIS with 19 buoys and 10 lighthouses fitted - will roll out a total of 64 AIS AtoN in the next 2 yea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The Norwegian Branch of the Nautical Institute held a seminar October 2010 – Lee Alexander was a key presenter and emphasised the need for mariners too define user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ahoma"/>
              </a:rPr>
              <a:t>Thanks for your atten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5:05:19Z</dcterms:created>
  <dc:creator>gpb</dc:creator>
  <dc:description/>
  <dc:language>en-US</dc:language>
  <cp:lastModifiedBy>Mike Hadley</cp:lastModifiedBy>
  <dcterms:modified xsi:type="dcterms:W3CDTF">2011-06-17T08:08:33Z</dcterms:modified>
  <cp:revision>22</cp:revision>
  <dc:subject/>
  <dc:title>Slide 1</dc:title>
</cp:coreProperties>
</file>